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AF79-2114-41D3-85B0-0D2B583EE2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c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eistocene 3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mian 250-22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dovician 45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cambri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00-650 M.y. (Snowball Ea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0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c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eistocene 3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mian 250-22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dovician 45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cambri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00-650 M.y. (Snowball Ea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0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hous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a natural Greenhouse Effect, earth would be fro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% due to Water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contributors: carbon dioxide, methane, nitrous ox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ttle Greenhouse Effect is a good th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l Sa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we are accelerating it with unknown final consequ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hous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a natural Greenhouse Effect, earth would be fro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% due to Water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contributors: carbon dioxide, methane, nitrous ox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ttle Greenhouse Effect is a good th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l Sa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we are accelerating it with unknown final consequ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has almost as much carbon dioxide as 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es add carbon dioxide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is removed from the air to make carbonat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house” and “Greenhouse” epis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has almost as much carbon dioxide as 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es add carbon dioxide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is removed from the air to make carbonat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house” and “Greenhouse” epis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-building favors coo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lift exposes rocks to weath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silicates (plagioclase, amphiboles, pyroxenes) are chemically weath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s carried to the sea where organisms bind it into carbonate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ion of carbonates removes carbon dioxide from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of carbonates returns carbon dioxide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-building favors coo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lift exposes rocks to weath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silicates (plagioclase, amphiboles, pyroxenes) are chemically weath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s carried to the sea where organisms bind it into carbonate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ion of carbonates removes carbon dioxide from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of carbonates returns carbon dioxide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 tectonics carries some carbonates into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liberates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returns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ycle does not require life but does require liqui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 tectonics carries some carbonates into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liberates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returns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ycle does not require life but does require liqui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900 and 600 m.y. ago, Earth froze completely (or almost) about four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freezing alternated with extremely rapid sea-level rise and global wa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al deposits on all continents, even at low latitu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al deposits immediately succeeded by thick deposits of carbonat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900 and 600 m.y. ago, Earth froze completely (or almost) about four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freezing alternated with extremely rapid sea-level rise and global wa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al deposits on all continents, even at low latitu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al deposits immediately succeeded by thick deposits of carbonat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nter early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cal ch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ic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and erosion shut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es continue to erupt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10% CO2, abrupt warming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from –50 C to +50 C in 10,000 ye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ations for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nter early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cal ch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ic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and erosion shut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es continue to erupt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10% CO2, abrupt warming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from –50 C to +50 C in 10,000 ye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ations for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uses Ice Ag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Earth (Endoge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ate-Silicate Cy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ic Eruptions - Sudden output of CO2 (warming) or particulates (coolin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 Building - Changes in atmospheric circul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ent-Ocean configu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Earth (Exoge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Sun (faint early su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s in Earth Orbit (Milankovitch Cycl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uses Ice Ag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Earth (Endoge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ate-Silicate Cy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ic Eruptions - Sudden output of CO2 (warming) or particulates (coolin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 Building - Changes in atmospheric circul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ent-Ocean configu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Earth (Exoge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Sun (faint early su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s in Earth Orbit (Milankovitch Cycl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e Headed For Another Ice 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&amp; Cooling in Historic Tim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, Haze, CO2 May Alter Clim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warming due to fossil fuels may be catastrophic in many ways, but will probably not much affect these longer-term cycles. We will have run out of fossil fuels long before the duration of a typical interglac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e Headed For Another Ice 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&amp; Cooling in Historic Tim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, Haze, CO2 May Alter Clim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warming due to fossil fuels may be catastrophic in many ways, but will probably not much affect these longer-term cycles. We will have run out of fossil fuels long before the duration of a typical interglac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Last 800,00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Last 800,00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 of the Ic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 of the Ic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ankovich Cy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 Summers More Important Than Cold W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lt of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of Orb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’t be the whole story-have operated throughout earth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ankovich Cy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 Summers More Important Than Cold W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lt of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of Orb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’t be the whole story-have operated throughout earth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Ti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Axis Tilt: Mild winters but cool summers. Favors Ice 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xis Tilt: Cold winters but hot summers. Favors Interglac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Ti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Axis Tilt: Mild winters but cool summers. Favors Ice 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xis Tilt: Cold winters but hot summers. Favors Interglac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Tilt and the Incredible Shrinking 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xis Tilt is Sh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.2 degrees 9,500 years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.4 degrees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6 degrees 10,200 years from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ics are sh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7 m/year = 4 cm/day = 1.7 mm/h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e zones gain 1550 sq km/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80 at the expense of 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0 at the expense of Arctic and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Tilt and the Incredible Shrinking 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xis Tilt is Sh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.2 degrees 9,500 years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.4 degrees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6 degrees 10,200 years from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ics are sh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7 m/year = 4 cm/day = 1.7 mm/h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e zones gain 1550 sq km/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80 at the expense of 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0 at the expense of Arctic and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cession:  26,000 year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cession:  26,000 year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of Orbit + Prec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r at Perihelion (Eccentric Orbi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winters but hot summers. Favors Interglac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r at Aphelion (Eccentric Orbi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-circular Orb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d winters but cool summers. Favors Ice 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of Orbit + Prec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r at Perihelion (Eccentric Orbi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winters but hot summers. Favors Interglac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r at Aphelion (Eccentric Orbi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-circular Orb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d winters but cool summers. Favors Ice 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7F4F-A5EF-4C67-B597-AFB4C8E99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4EBF-1B29-4A5E-9B00-1FCB1DF2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7819-52FB-4990-99A8-02DE5ACC0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8BF2-4935-4E41-8B39-A18D548F3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888F-5ED9-400B-890E-CA2F5AA9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A73A-6D59-465D-9442-7AA24EC3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727A-B169-49B3-8737-016523CA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5B70-1CB1-4862-94F7-9E32251C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03C6-0DBE-476C-A06D-676865AB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7AE8-3F34-4FF8-A322-95179A20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984B-35D9-4DB9-8BAC-5988AE1F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364C-7F5A-4DD8-A538-182AFF2F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6D1E-07DA-4F42-9BA4-433D65F65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ce 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eistocene 3 M.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an 250-220 M.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ovician 450 M.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ambri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0-650 M.y. (Snowball Eart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300 M.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eenhouse Ef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 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ur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reenhouse Effect, earth would be froz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% due to Water Vap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contributors: carbon dioxide, methane, nitrous ox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ittle Greenhouse Effect is a good thing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 Sag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we are accelerating it with unknown final consequ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th has almost as much carbon dioxide as V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canoes add carbon dioxide to the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bon dioxide is removed from the air to make carbonate r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ehouse” and “Greenhouse” epis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ntain-building favors c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lift exposes rocks to weath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ium silicates (plagioclase, amphiboles, pyroxenes) are chemically weath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ium is carried to the sea where organisms bind it into carbonate min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ion of carbonates removes carbon dioxide from the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thering of carbonates returns carbon dioxide to the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te tectonics carries some carbonates into the 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t liberates carbon di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bon dioxide returns to the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ycle does not require life but does require liquid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ween 900 and 600 m.y. ago, Earth froze completely (or almost) about four 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freezing alternated with extremely rapid sea-level rise and global war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d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acial deposits on all continents, even at low latitu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acial deposits immediately succeeded by thick deposits of carbonate r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reaso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nter early su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logical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ice c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thering and erosion shut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canoes continue to erupt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10%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brupt warming beg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from –50 C to +50 C in 10,000 yea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ications for lif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Causes Ice Ag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in Earth (Endogen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bonate-Silicate Cyc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lcanic Eruptions - Sudden output of 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warming) or particulates (cool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untain Building - Changes in atmospheric circu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ent-Ocean configu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side Earth (Exogen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Sun (faint early su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tions in Earth Orbit (Milankovitch Cycl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e We Headed For Another Ice A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ting &amp; Cooling in Historic Tim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oke, Haze,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Alter Clim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warming due to fossil fuels may be catastrophic in many ways, but will probably not much affect these longer-term cycles. We will have run out of fossil fuels long before the duration of a typical intergla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80880" y="228600"/>
          <a:ext cx="8458200" cy="6267600"/>
        </p:xfrm>
        <a:graphic>
          <a:graphicData uri="http://schemas.openxmlformats.org/drawingml/2006/table">
            <a:tbl>
              <a:tblPr/>
              <a:tblGrid>
                <a:gridCol w="1828800"/>
                <a:gridCol w="1752840"/>
                <a:gridCol w="1447560"/>
                <a:gridCol w="1737000"/>
                <a:gridCol w="1692000"/>
              </a:tblGrid>
              <a:tr h="380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(1000 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h Amer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hern Eur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and-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-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glacia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scons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u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st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sov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-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ga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zn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ov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-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llinois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rthe/Sa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acov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-2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rmo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et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ste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omir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-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ns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roslav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-3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ton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ome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khv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0-4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Nebraskan 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n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nap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0-5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al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0-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u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ybour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0-5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gl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5-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u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-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out 20 Glacial Adv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(2 M.Y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ginning of Pleistoce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0 (4 M.Y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warf forests still in Antarc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M.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Glaciation in Antarctic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ast 800,000 ye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O18Record800Ka"/>
          <p:cNvPicPr/>
          <p:nvPr/>
        </p:nvPicPr>
        <p:blipFill>
          <a:blip r:embed="rId1"/>
          <a:stretch/>
        </p:blipFill>
        <p:spPr>
          <a:xfrm>
            <a:off x="685800" y="1981080"/>
            <a:ext cx="792468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266688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ginning of the Ice 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DeepSeaRecord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66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lankovich Cy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l Summers More Important Than Cold Wi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lt of 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pe of Orb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’t be the whole story-have operated throughout earth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xis Ti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44953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Axis Tilt: Mild winters but cool summers. Favors Ice 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Axis Tilt: Cold winters but hot summers. Favors Intergla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Milankovich0"/>
          <p:cNvPicPr/>
          <p:nvPr/>
        </p:nvPicPr>
        <p:blipFill>
          <a:blip r:embed="rId1"/>
          <a:stretch/>
        </p:blipFill>
        <p:spPr>
          <a:xfrm>
            <a:off x="1523880" y="1447920"/>
            <a:ext cx="6286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xis Tilt and the Incredible Shrinking Trop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th’s Axis Tilt is Shr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.2 degrees 9,500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.4 degrees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.6 degrees 10,200 years from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pics are shr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.7 m/year = 4 cm/day = 1.7 mm/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erate zones gain 1550 sq km/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80 at the expense of trop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70 at the expense of Arctic and Antarc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38102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ession:  26,000 year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PrecessAxis"/>
          <p:cNvPicPr/>
          <p:nvPr/>
        </p:nvPicPr>
        <p:blipFill>
          <a:blip r:embed="rId1"/>
          <a:stretch/>
        </p:blipFill>
        <p:spPr>
          <a:xfrm>
            <a:off x="4191120" y="1219320"/>
            <a:ext cx="44193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hape of Orbit + Prec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4038480"/>
            <a:ext cx="80773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er at Perihelion (Eccentric Orbi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d winters but hot summers. Favors Interglac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er at Aphelion (Eccentric Orbi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ar-circular Orb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d winters but cool summers. Favors Ice 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Milankovich1"/>
          <p:cNvPicPr/>
          <p:nvPr/>
        </p:nvPicPr>
        <p:blipFill>
          <a:blip r:embed="rId1"/>
          <a:stretch/>
        </p:blipFill>
        <p:spPr>
          <a:xfrm>
            <a:off x="1447920" y="1143000"/>
            <a:ext cx="6286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8T21:10:32Z</dcterms:created>
  <dc:creator>Steven Dutch</dc:creator>
  <dc:description/>
  <dc:language>en-US</dc:language>
  <cp:lastModifiedBy>RomaK</cp:lastModifiedBy>
  <dcterms:modified xsi:type="dcterms:W3CDTF">2015-09-04T09:43:17Z</dcterms:modified>
  <cp:revision>14</cp:revision>
  <dc:subject/>
  <dc:title>Glaciers </dc:title>
</cp:coreProperties>
</file>